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1D4-CB25-439E-9D9B-8F767CEC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B4E-B7C2-4EC0-8684-223ED30B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07F-8144-42E4-B0DD-C8C027A0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087-048F-4C60-B56C-A2ECDDB9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7DADC-6416-45A6-B39D-E3600A2E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D975F-2B1F-47BC-BC70-94BC3E6B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D6DE2-0A3D-4F2D-9574-15CBAB7D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EA448-2788-4B54-B0EA-7ABD47B0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F31E2-9BA1-4F93-A76B-A0EF9BE3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53F58-47EC-465B-BA9F-F136D13F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1DD2F-FB1F-47C9-AB40-485A7998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914-AD2D-4F9C-A76F-5ABE6A68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F84C3-283F-4561-B104-27218F33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11CE9-1275-4E06-9435-C82DF931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788BA-449D-48F8-8DF4-30926724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9BC62-BA4F-4E02-98FF-7EB2C6DA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D247E-0111-47AE-B79C-25AB4236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FCAC-0AD5-412B-8213-EE78309A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21D-2464-44EF-9989-C39362EC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EF8-88BF-4FAF-9914-C57AECC8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EC0-6B5F-49BB-A3AB-396FC1CF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DAA-100B-4C92-9622-E83DC29B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728-B2F0-4E20-BED5-2BFF183A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275-FC75-4945-852E-B22E4335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C578-3761-4CE9-8636-344AAC741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A77D-4A95-4E62-8F65-E6ABCB59955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PAON2 nex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J.E Campag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25/02/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ahoma"/>
              </a:rPr>
              <a:t>BACK-U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fr-FR" sz="4400" spc="-1" strike="noStrike" baseline="-25000">
                <a:solidFill>
                  <a:srgbClr val="ffffff"/>
                </a:solidFill>
                <a:latin typeface="Tahoma"/>
              </a:rPr>
              <a:t>eq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, noise, T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Tahoma"/>
              </a:rPr>
              <a:t>sys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7085520" y="189000"/>
            <a:ext cx="190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JEC PAON2/04.02.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322280" y="1833480"/>
            <a:ext cx="6778800" cy="3683160"/>
          </a:xfrm>
          <a:prstGeom prst="rect">
            <a:avLst/>
          </a:prstGeom>
          <a:ln w="0">
            <a:noFill/>
          </a:ln>
        </p:spPr>
      </p:pic>
      <p:sp>
        <p:nvSpPr>
          <p:cNvPr id="140" name="ZoneTexte 4"/>
          <p:cNvSpPr/>
          <p:nvPr/>
        </p:nvSpPr>
        <p:spPr>
          <a:xfrm>
            <a:off x="2896560" y="141300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Fit des visibilités Sun &amp; CygA trans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ZoneTexte 5"/>
          <p:cNvSpPr/>
          <p:nvPr/>
        </p:nvSpPr>
        <p:spPr>
          <a:xfrm>
            <a:off x="2043000" y="5877000"/>
            <a:ext cx="534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&lt;R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Tahoma"/>
              </a:rPr>
              <a:t>eq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&gt; ~ 1.25m à comparer à 1.50m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Tahoma"/>
              </a:rPr>
              <a:t>geom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~ 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Mon point de v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3" name="Groupe 3"/>
          <p:cNvGrpSpPr/>
          <p:nvPr/>
        </p:nvGrpSpPr>
        <p:grpSpPr>
          <a:xfrm>
            <a:off x="1116000" y="1380960"/>
            <a:ext cx="6985080" cy="2578320"/>
            <a:chOff x="1116000" y="1380960"/>
            <a:chExt cx="6985080" cy="2578320"/>
          </a:xfrm>
        </p:grpSpPr>
        <p:pic>
          <p:nvPicPr>
            <p:cNvPr id="144" name="Picture 2" descr=""/>
            <p:cNvPicPr/>
            <p:nvPr/>
          </p:nvPicPr>
          <p:blipFill>
            <a:blip r:embed="rId1"/>
            <a:stretch/>
          </p:blipFill>
          <p:spPr>
            <a:xfrm>
              <a:off x="1116000" y="1380960"/>
              <a:ext cx="6985080" cy="25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5"/>
            <p:cNvSpPr/>
            <p:nvPr/>
          </p:nvSpPr>
          <p:spPr>
            <a:xfrm>
              <a:off x="1247760" y="1812600"/>
              <a:ext cx="263520" cy="24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ZoneTexte 6"/>
          <p:cNvSpPr/>
          <p:nvPr/>
        </p:nvSpPr>
        <p:spPr>
          <a:xfrm>
            <a:off x="889560" y="1093680"/>
            <a:ext cx="52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JEC PAON/Science/31.05.12 et commentaires par P.C 6/06/1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lèche droite rayée 7"/>
          <p:cNvSpPr/>
          <p:nvPr/>
        </p:nvSpPr>
        <p:spPr>
          <a:xfrm>
            <a:off x="108000" y="3470400"/>
            <a:ext cx="977760" cy="484200"/>
          </a:xfrm>
          <a:custGeom>
            <a:avLst/>
            <a:gdLst>
              <a:gd name="textAreaLeft" fmla="*/ 7560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977900" h="484188">
                <a:moveTo>
                  <a:pt x="0" y="121047"/>
                </a:moveTo>
                <a:lnTo>
                  <a:pt x="15131" y="121047"/>
                </a:lnTo>
                <a:lnTo>
                  <a:pt x="15131" y="363141"/>
                </a:lnTo>
                <a:lnTo>
                  <a:pt x="0" y="363141"/>
                </a:lnTo>
                <a:close/>
                <a:moveTo>
                  <a:pt x="30262" y="121047"/>
                </a:moveTo>
                <a:lnTo>
                  <a:pt x="60524" y="121047"/>
                </a:lnTo>
                <a:lnTo>
                  <a:pt x="60524" y="363141"/>
                </a:lnTo>
                <a:lnTo>
                  <a:pt x="30262" y="363141"/>
                </a:lnTo>
                <a:close/>
                <a:moveTo>
                  <a:pt x="75654" y="121047"/>
                </a:moveTo>
                <a:lnTo>
                  <a:pt x="735806" y="121047"/>
                </a:lnTo>
                <a:lnTo>
                  <a:pt x="735806" y="0"/>
                </a:lnTo>
                <a:lnTo>
                  <a:pt x="977900" y="242094"/>
                </a:lnTo>
                <a:lnTo>
                  <a:pt x="735806" y="484188"/>
                </a:lnTo>
                <a:lnTo>
                  <a:pt x="735806" y="363141"/>
                </a:lnTo>
                <a:lnTo>
                  <a:pt x="75654" y="363141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ZoneTexte 8"/>
          <p:cNvSpPr/>
          <p:nvPr/>
        </p:nvSpPr>
        <p:spPr>
          <a:xfrm>
            <a:off x="826920" y="4005360"/>
            <a:ext cx="790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es paraboles actuelles dupliquées apporteraient déjà beaucoup pour étude stabilité et développer nouvelle électroniq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oût du réflecteur (1/1/2013) 1150 € HT/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ontage au LAL &amp; transport Nançay par le camion L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anutention in situ « à la main » sans trop d’eff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e besoin d’une préparation spéciale du terrain se pose, on voit ce que cela a déjà don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Nouveau design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étude/réalisation fixation du fe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ieds à fiabiliser et intégrer (si possible) une motorisation « Elévation 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fr-FR" sz="4400" spc="-1" strike="noStrike" baseline="-25000">
                <a:solidFill>
                  <a:srgbClr val="ffffff"/>
                </a:solidFill>
                <a:latin typeface="Tahoma"/>
              </a:rPr>
              <a:t>eq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, noise, T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Tahoma"/>
              </a:rPr>
              <a:t>sys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255680" y="3933720"/>
            <a:ext cx="3060720" cy="2924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1400040" y="1413000"/>
            <a:ext cx="2667240" cy="2441520"/>
          </a:xfrm>
          <a:prstGeom prst="rect">
            <a:avLst/>
          </a:prstGeom>
          <a:ln w="0">
            <a:noFill/>
          </a:ln>
        </p:spPr>
      </p:pic>
      <p:sp>
        <p:nvSpPr>
          <p:cNvPr id="152" name="ZoneTexte 5"/>
          <p:cNvSpPr/>
          <p:nvPr/>
        </p:nvSpPr>
        <p:spPr>
          <a:xfrm>
            <a:off x="1907640" y="5157720"/>
            <a:ext cx="212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Tahoma"/>
              </a:rPr>
              <a:t>Noise fluctu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4568760" y="3933720"/>
            <a:ext cx="2955960" cy="2862360"/>
          </a:xfrm>
          <a:prstGeom prst="rect">
            <a:avLst/>
          </a:prstGeom>
          <a:ln w="0">
            <a:noFill/>
          </a:ln>
        </p:spPr>
      </p:pic>
      <p:sp>
        <p:nvSpPr>
          <p:cNvPr id="154" name="Flèche droite 7"/>
          <p:cNvSpPr/>
          <p:nvPr/>
        </p:nvSpPr>
        <p:spPr>
          <a:xfrm>
            <a:off x="4208400" y="5157720"/>
            <a:ext cx="50328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Flèche droite 8"/>
          <p:cNvSpPr/>
          <p:nvPr/>
        </p:nvSpPr>
        <p:spPr>
          <a:xfrm>
            <a:off x="4284720" y="2781360"/>
            <a:ext cx="503280" cy="43164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lèche droite 9"/>
          <p:cNvSpPr/>
          <p:nvPr/>
        </p:nvSpPr>
        <p:spPr>
          <a:xfrm rot="16200000">
            <a:off x="5901480" y="3392640"/>
            <a:ext cx="502920" cy="4320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2307240" y="2133720"/>
            <a:ext cx="1346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Tahoma"/>
              </a:rPr>
              <a:t>Sun trans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Tahoma"/>
              </a:rPr>
              <a:t>9 Oct 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6569640" y="189000"/>
            <a:ext cx="20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JEC PAON2/09.11.12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Groupe 14"/>
          <p:cNvGrpSpPr/>
          <p:nvPr/>
        </p:nvGrpSpPr>
        <p:grpSpPr>
          <a:xfrm>
            <a:off x="5361120" y="2565360"/>
            <a:ext cx="1658880" cy="733320"/>
            <a:chOff x="5361120" y="2565360"/>
            <a:chExt cx="1658880" cy="733320"/>
          </a:xfrm>
        </p:grpSpPr>
        <p:pic>
          <p:nvPicPr>
            <p:cNvPr id="160" name="Picture 5" descr=""/>
            <p:cNvPicPr/>
            <p:nvPr/>
          </p:nvPicPr>
          <p:blipFill>
            <a:blip r:embed="rId4"/>
            <a:stretch/>
          </p:blipFill>
          <p:spPr>
            <a:xfrm>
              <a:off x="5361120" y="2565360"/>
              <a:ext cx="165888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Ellipse 13"/>
            <p:cNvSpPr/>
            <p:nvPr/>
          </p:nvSpPr>
          <p:spPr>
            <a:xfrm>
              <a:off x="5364000" y="2997000"/>
              <a:ext cx="36036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ZoneTexte 15"/>
          <p:cNvSpPr/>
          <p:nvPr/>
        </p:nvSpPr>
        <p:spPr>
          <a:xfrm>
            <a:off x="2606400" y="335772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Tahoma"/>
              </a:rPr>
              <a:t>1415MH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ZoneTexte 16"/>
          <p:cNvSpPr/>
          <p:nvPr/>
        </p:nvSpPr>
        <p:spPr>
          <a:xfrm>
            <a:off x="4478760" y="1557360"/>
            <a:ext cx="45255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ais le Soleil n’est pas facile à analyser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« disque » ~ Beam  (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Tahoma"/>
              </a:rPr>
              <a:t>collec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~ 40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+ Flux change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Chasse aux radars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960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Electronique: BdT @ L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95400" y="1440000"/>
            <a:ext cx="4332240" cy="4991040"/>
          </a:xfrm>
          <a:prstGeom prst="rect">
            <a:avLst/>
          </a:prstGeom>
          <a:ln w="0">
            <a:noFill/>
          </a:ln>
        </p:spPr>
      </p:pic>
      <p:sp>
        <p:nvSpPr>
          <p:cNvPr id="168" name="ZoneTexte 3"/>
          <p:cNvSpPr/>
          <p:nvPr/>
        </p:nvSpPr>
        <p:spPr>
          <a:xfrm>
            <a:off x="2014920" y="184464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ADC se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ZoneTexte 4"/>
          <p:cNvSpPr/>
          <p:nvPr/>
        </p:nvSpPr>
        <p:spPr>
          <a:xfrm>
            <a:off x="1693440" y="2421000"/>
            <a:ext cx="17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Raie FPGA 125M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Symbol"/>
                <a:ea typeface="Symbol"/>
              </a:rPr>
              <a:t></a:t>
            </a: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Raie @ 1375M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4546440" y="1413000"/>
            <a:ext cx="4489560" cy="5013360"/>
          </a:xfrm>
          <a:prstGeom prst="rect">
            <a:avLst/>
          </a:prstGeom>
          <a:ln w="0">
            <a:noFill/>
          </a:ln>
        </p:spPr>
      </p:pic>
      <p:sp>
        <p:nvSpPr>
          <p:cNvPr id="171" name="ZoneTexte 6"/>
          <p:cNvSpPr/>
          <p:nvPr/>
        </p:nvSpPr>
        <p:spPr>
          <a:xfrm>
            <a:off x="5572080" y="270828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ADC + OL/mixer + 7m câ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ZoneTexte 8"/>
          <p:cNvSpPr/>
          <p:nvPr/>
        </p:nvSpPr>
        <p:spPr>
          <a:xfrm>
            <a:off x="5650920" y="4221000"/>
            <a:ext cx="2745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Tahoma"/>
              </a:rPr>
              <a:t>Oscillations: adaptation mixer-câ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Tahoma"/>
              </a:rPr>
              <a:t>Raie: 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6564960" y="1159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JEC PAON2-OptX21cm/11.02.1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AON2: qq résultats « so far » depuis le 20 Sept.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Méca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Electro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fr-FR" sz="2800" spc="-1" strike="noStrike" baseline="-25000">
                <a:solidFill>
                  <a:srgbClr val="ffffff"/>
                </a:solidFill>
                <a:latin typeface="Tahoma"/>
              </a:rPr>
              <a:t>sys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AON2-nex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Qq points de comparai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187280" y="44280"/>
            <a:ext cx="6085080" cy="3356280"/>
          </a:xfrm>
          <a:prstGeom prst="rect">
            <a:avLst/>
          </a:prstGeom>
          <a:ln w="0">
            <a:noFill/>
          </a:ln>
        </p:spPr>
      </p:pic>
      <p:sp>
        <p:nvSpPr>
          <p:cNvPr id="88" name="ZoneTexte 2"/>
          <p:cNvSpPr/>
          <p:nvPr/>
        </p:nvSpPr>
        <p:spPr>
          <a:xfrm>
            <a:off x="5562360" y="189000"/>
            <a:ext cx="149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ancay 10 Sept 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2"/>
          <a:srcRect l="2275" t="0" r="1135" b="0"/>
          <a:stretch/>
        </p:blipFill>
        <p:spPr>
          <a:xfrm>
            <a:off x="1187280" y="3213000"/>
            <a:ext cx="6121440" cy="3573720"/>
          </a:xfrm>
          <a:prstGeom prst="rect">
            <a:avLst/>
          </a:prstGeom>
          <a:ln w="0">
            <a:noFill/>
          </a:ln>
        </p:spPr>
      </p:pic>
      <p:sp>
        <p:nvSpPr>
          <p:cNvPr id="90" name="ZoneTexte 4"/>
          <p:cNvSpPr/>
          <p:nvPr/>
        </p:nvSpPr>
        <p:spPr>
          <a:xfrm>
            <a:off x="5707440" y="6392880"/>
            <a:ext cx="152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ancay 18 Fevr. 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ZoneTexte 5"/>
          <p:cNvSpPr/>
          <p:nvPr/>
        </p:nvSpPr>
        <p:spPr>
          <a:xfrm>
            <a:off x="1010880" y="3213000"/>
            <a:ext cx="6525000" cy="642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es paraboles aussi fragile soient-elles ont tenu bon l’h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erci François…. Et heureusement qu’on les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Electronique: PAON2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ZoneTexte 6"/>
          <p:cNvSpPr/>
          <p:nvPr/>
        </p:nvSpPr>
        <p:spPr>
          <a:xfrm>
            <a:off x="539640" y="5805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epuis les test à Meudon on a des problèmes d’oscillations très prononcé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es oscillations sont d’amplitudes bien supérieures à celles de HICluster, et de peak-to-peak ~10MHz différent de HICluster.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Banc de Tests @ L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012440" y="115920"/>
            <a:ext cx="190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JEC PAON2/04.02.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5668920" cy="4640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5580000" y="1628640"/>
            <a:ext cx="2737080" cy="208440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8"/>
          <p:cNvSpPr/>
          <p:nvPr/>
        </p:nvSpPr>
        <p:spPr>
          <a:xfrm>
            <a:off x="2837880" y="162864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19 Fev. 13 @ 14h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Electronique: BdT @ L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4489560" cy="5013360"/>
          </a:xfrm>
          <a:prstGeom prst="rect">
            <a:avLst/>
          </a:prstGeom>
          <a:ln w="0">
            <a:noFill/>
          </a:ln>
        </p:spPr>
      </p:pic>
      <p:sp>
        <p:nvSpPr>
          <p:cNvPr id="100" name="ZoneTexte 6"/>
          <p:cNvSpPr/>
          <p:nvPr/>
        </p:nvSpPr>
        <p:spPr>
          <a:xfrm>
            <a:off x="2933640" y="270828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ADC + OL/mixer + 7m câ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ZoneTexte 8"/>
          <p:cNvSpPr/>
          <p:nvPr/>
        </p:nvSpPr>
        <p:spPr>
          <a:xfrm>
            <a:off x="3012840" y="4221000"/>
            <a:ext cx="2745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Tahoma"/>
              </a:rPr>
              <a:t>Oscillations: adaptation mixer-câ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Tahoma"/>
              </a:rPr>
              <a:t>Raie: 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564960" y="11592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JEC PAON2-OptX21cm/11.02.1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Electronique: BdT @ L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2" descr="Agilent 8648B"/>
          <p:cNvPicPr/>
          <p:nvPr/>
        </p:nvPicPr>
        <p:blipFill>
          <a:blip r:embed="rId1"/>
          <a:stretch/>
        </p:blipFill>
        <p:spPr>
          <a:xfrm>
            <a:off x="5651640" y="1484280"/>
            <a:ext cx="2381040" cy="2000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128840" cy="278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2124000" y="3284640"/>
            <a:ext cx="4781520" cy="3173400"/>
          </a:xfrm>
          <a:prstGeom prst="rect">
            <a:avLst/>
          </a:prstGeom>
          <a:ln w="0">
            <a:noFill/>
          </a:ln>
        </p:spPr>
      </p:pic>
      <p:sp>
        <p:nvSpPr>
          <p:cNvPr id="107" name="ZoneTexte 5"/>
          <p:cNvSpPr/>
          <p:nvPr/>
        </p:nvSpPr>
        <p:spPr>
          <a:xfrm>
            <a:off x="1292760" y="2565360"/>
            <a:ext cx="16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Tahoma"/>
              </a:rPr>
              <a:t>OL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L synthétis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oneTexte 6"/>
          <p:cNvSpPr/>
          <p:nvPr/>
        </p:nvSpPr>
        <p:spPr>
          <a:xfrm>
            <a:off x="223200" y="43657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OL/mixer+AD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oneTexte 7"/>
          <p:cNvSpPr/>
          <p:nvPr/>
        </p:nvSpPr>
        <p:spPr>
          <a:xfrm>
            <a:off x="5376600" y="112536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ynthé Agilent: 1250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ZoneTexte 8"/>
          <p:cNvSpPr/>
          <p:nvPr/>
        </p:nvSpPr>
        <p:spPr>
          <a:xfrm>
            <a:off x="2771640" y="3573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Suppression de la quasi-totalité des raies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337080" y="115920"/>
            <a:ext cx="27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JEC PAON2-OptX21cm/19.02.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ZoneTexte 10"/>
          <p:cNvSpPr/>
          <p:nvPr/>
        </p:nvSpPr>
        <p:spPr>
          <a:xfrm>
            <a:off x="5981040" y="6581880"/>
            <a:ext cx="315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1385MHz: intermittence… blindage moyen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fr-FR" sz="4400" spc="-1" strike="noStrike" baseline="-25000">
                <a:solidFill>
                  <a:srgbClr val="ffffff"/>
                </a:solidFill>
                <a:latin typeface="Tahoma"/>
              </a:rPr>
              <a:t>eq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, noise, T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Tahoma"/>
              </a:rPr>
              <a:t>sys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08000" y="2193840"/>
            <a:ext cx="4608360" cy="1882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7085520" y="189000"/>
            <a:ext cx="190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JEC PAON2/04.02.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ZoneTexte 4"/>
          <p:cNvSpPr/>
          <p:nvPr/>
        </p:nvSpPr>
        <p:spPr>
          <a:xfrm>
            <a:off x="162000" y="1763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ygA 23/11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5076720" y="4460760"/>
            <a:ext cx="2087640" cy="199260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e 16"/>
          <p:cNvGrpSpPr/>
          <p:nvPr/>
        </p:nvGrpSpPr>
        <p:grpSpPr>
          <a:xfrm>
            <a:off x="34920" y="4292640"/>
            <a:ext cx="5257800" cy="2195640"/>
            <a:chOff x="34920" y="4292640"/>
            <a:chExt cx="5257800" cy="2195640"/>
          </a:xfrm>
        </p:grpSpPr>
        <p:pic>
          <p:nvPicPr>
            <p:cNvPr id="119" name="Picture 3" descr=""/>
            <p:cNvPicPr/>
            <p:nvPr/>
          </p:nvPicPr>
          <p:blipFill>
            <a:blip r:embed="rId3"/>
            <a:stretch/>
          </p:blipFill>
          <p:spPr>
            <a:xfrm>
              <a:off x="34920" y="4292640"/>
              <a:ext cx="5257800" cy="21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ZoneTexte 7"/>
            <p:cNvSpPr/>
            <p:nvPr/>
          </p:nvSpPr>
          <p:spPr>
            <a:xfrm>
              <a:off x="1013040" y="4571640"/>
              <a:ext cx="117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2060"/>
                  </a:solidFill>
                  <a:latin typeface="Tahoma"/>
                </a:rPr>
                <a:t>normalis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ccolade fermante 8"/>
            <p:cNvSpPr/>
            <p:nvPr/>
          </p:nvSpPr>
          <p:spPr>
            <a:xfrm rot="5400000">
              <a:off x="3494520" y="4491720"/>
              <a:ext cx="279720" cy="2670840"/>
            </a:xfrm>
            <a:custGeom>
              <a:avLst/>
              <a:gdLst>
                <a:gd name="textAreaLeft" fmla="*/ 0 w 279720"/>
                <a:gd name="textAreaRight" fmla="*/ 100800 w 279720"/>
                <a:gd name="textAreaTop" fmla="*/ 8280 h 2670840"/>
                <a:gd name="textAreaBottom" fmla="*/ 2662560 h 267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0"/>
                    <a:pt x="10800" y="219"/>
                  </a:cubicBezTo>
                  <a:lnTo>
                    <a:pt x="10800" y="10581"/>
                  </a:lnTo>
                  <a:cubicBezTo>
                    <a:pt x="10800" y="10691"/>
                    <a:pt x="16200" y="10800"/>
                    <a:pt x="21600" y="10800"/>
                  </a:cubicBezTo>
                  <a:cubicBezTo>
                    <a:pt x="16200" y="10800"/>
                    <a:pt x="10800" y="10910"/>
                    <a:pt x="10800" y="11019"/>
                  </a:cubicBezTo>
                  <a:lnTo>
                    <a:pt x="10800" y="21381"/>
                  </a:lnTo>
                  <a:cubicBezTo>
                    <a:pt x="10800" y="2149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2e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Flèche droite 9"/>
          <p:cNvSpPr/>
          <p:nvPr/>
        </p:nvSpPr>
        <p:spPr>
          <a:xfrm rot="16200000">
            <a:off x="5904720" y="3969360"/>
            <a:ext cx="50328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e 14"/>
          <p:cNvGrpSpPr/>
          <p:nvPr/>
        </p:nvGrpSpPr>
        <p:grpSpPr>
          <a:xfrm>
            <a:off x="7308720" y="3789360"/>
            <a:ext cx="1685880" cy="719280"/>
            <a:chOff x="7308720" y="3789360"/>
            <a:chExt cx="1685880" cy="719280"/>
          </a:xfrm>
        </p:grpSpPr>
        <p:sp>
          <p:nvSpPr>
            <p:cNvPr id="124" name="Rectangle 12"/>
            <p:cNvSpPr/>
            <p:nvPr/>
          </p:nvSpPr>
          <p:spPr>
            <a:xfrm>
              <a:off x="7308720" y="3789360"/>
              <a:ext cx="165600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5"/>
                <p:cNvSpPr txBox="1"/>
                <p:nvPr/>
              </p:nvSpPr>
              <p:spPr>
                <a:xfrm>
                  <a:off x="7380720" y="3861000"/>
                  <a:ext cx="1613880" cy="58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ys</m:t>
                              </m:r>
                            </m:sub>
                          </m:sSub>
                        </m:num>
                        <m:den>
                          <m:r>
                            <m:t xml:space="preserve">η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75</m:t>
                      </m:r>
                      <m:r>
                        <m:t xml:space="preserve">÷</m:t>
                      </m:r>
                      <m:r>
                        <m:rPr>
                          <m:lit/>
                          <m:nor/>
                        </m:rPr>
                        <m:t xml:space="preserve">200</m:t>
                      </m:r>
                      <m:r>
                        <m:t xml:space="preserve">)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6" name="Ellipse 13"/>
            <p:cNvSpPr/>
            <p:nvPr/>
          </p:nvSpPr>
          <p:spPr>
            <a:xfrm>
              <a:off x="7380000" y="4221360"/>
              <a:ext cx="288720" cy="216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4324320" cy="2397240"/>
          </a:xfrm>
          <a:prstGeom prst="rect">
            <a:avLst/>
          </a:prstGeom>
          <a:ln w="0">
            <a:noFill/>
          </a:ln>
        </p:spPr>
      </p:pic>
      <p:sp>
        <p:nvSpPr>
          <p:cNvPr id="128" name="ZoneTexte 17"/>
          <p:cNvSpPr/>
          <p:nvPr/>
        </p:nvSpPr>
        <p:spPr>
          <a:xfrm flipV="1" rot="10800000">
            <a:off x="5805000" y="3573000"/>
            <a:ext cx="72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Tahoma"/>
              </a:rPr>
              <a:t>sy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ZoneTexte 18"/>
          <p:cNvSpPr/>
          <p:nvPr/>
        </p:nvSpPr>
        <p:spPr>
          <a:xfrm>
            <a:off x="8074800" y="458136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1400M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Bilan &amp; « what else 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54824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mécanique a rempli son rôle même si on peut l’amélior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’électronique est perfectible même si on a pu faire de l’analys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 l’état pour PAON (et plus crucialement OptX21cm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O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Adaptation câb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44ff4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4ff44"/>
                </a:solidFill>
                <a:latin typeface="Tahoma"/>
              </a:rPr>
              <a:t>Développement possible: numérisation au pieds des antennes en full streaming en combinant calcul des visibilités sur Uniboard ou « the like 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Reste: étude en situation, en </a:t>
            </a:r>
            <a:r>
              <a:rPr b="0" lang="fr-FR" sz="2400" spc="-1" strike="noStrike">
                <a:solidFill>
                  <a:srgbClr val="44ff44"/>
                </a:solidFill>
                <a:latin typeface="Tahoma"/>
              </a:rPr>
              <a:t>l</a:t>
            </a:r>
            <a:r>
              <a:rPr b="0" lang="fr-FR" sz="2200" spc="-1" strike="noStrike">
                <a:solidFill>
                  <a:srgbClr val="44ff44"/>
                </a:solidFill>
                <a:latin typeface="Tahoma"/>
              </a:rPr>
              <a:t>ongue durée, </a:t>
            </a:r>
            <a:r>
              <a:rPr b="0" lang="fr-FR" sz="2200" spc="-1" strike="noStrike">
                <a:solidFill>
                  <a:srgbClr val="ffffff"/>
                </a:solidFill>
                <a:latin typeface="Tahoma"/>
              </a:rPr>
              <a:t>des cross-correlations à multi-paraboles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tabilité du T</a:t>
            </a:r>
            <a:r>
              <a:rPr b="0" lang="fr-FR" sz="2400" spc="-1" strike="noStrike" baseline="-25000">
                <a:solidFill>
                  <a:srgbClr val="ffffff"/>
                </a:solidFill>
                <a:latin typeface="Tahoma"/>
              </a:rPr>
              <a:t>sys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44ff4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4ff44"/>
                </a:solidFill>
                <a:latin typeface="Tahoma"/>
              </a:rPr>
              <a:t>Mini-carte du ceil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, 3-4h/jr, avec une source pour normalisation type Cyg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6 (8) paraboles donnent 15 (28) lignes de bases avec une certaine redondance (~2 à 4) et on peut discuter de la géométrie « optimale »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Mesure indépendante du T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Tahoma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Qq points de comparais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95280" y="1844640"/>
          <a:ext cx="8569440" cy="3505320"/>
        </p:xfrm>
        <a:graphic>
          <a:graphicData uri="http://schemas.openxmlformats.org/drawingml/2006/table">
            <a:tbl>
              <a:tblPr/>
              <a:tblGrid>
                <a:gridCol w="2141640"/>
                <a:gridCol w="2533680"/>
                <a:gridCol w="2111400"/>
                <a:gridCol w="1782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m 30 kg H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 (6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) ou (4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5m 70kg Ha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m 400kg F.R  x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R&amp;D électroniq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Carte Ci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Usage de cornet n&lt;1250MH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Lim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Coût Réflec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1150€ HT/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1814€ HT/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B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Légè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Mé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Lour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Constr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L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Nanç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Nanç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Manut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4-5 person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« Manitou 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« Manitou 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de"/>
                    </a:solidFill>
                  </a:tcPr>
                </a:tc>
              </a:tr>
            </a:tbl>
          </a:graphicData>
        </a:graphic>
      </p:graphicFrame>
      <p:sp>
        <p:nvSpPr>
          <p:cNvPr id="134" name="ZoneTexte 6"/>
          <p:cNvSpPr/>
          <p:nvPr/>
        </p:nvSpPr>
        <p:spPr>
          <a:xfrm>
            <a:off x="1167120" y="5589720"/>
            <a:ext cx="6746040" cy="3682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JEC PAON/Science/31.05.12 et commentaires par P.C 6/06/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2:43:05Z</dcterms:created>
  <dc:creator>J.E CAMPAGNE</dc:creator>
  <dc:description/>
  <dc:language>en-US</dc:language>
  <cp:lastModifiedBy>J.E CAMPAGNE</cp:lastModifiedBy>
  <dcterms:modified xsi:type="dcterms:W3CDTF">2013-02-28T15:47:13Z</dcterms:modified>
  <cp:revision>107</cp:revision>
  <dc:subject/>
  <dc:title>PAON2 next</dc:title>
</cp:coreProperties>
</file>